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B377-0831-4843-8910-EF65AFA4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F562-7747-470D-B5BF-8EEFF0A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4206-234D-4D71-8811-F17D434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703D-A4D5-4603-8812-B04AB39B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BC91-2D9B-42D2-9F67-0B4BF066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0DFE-2DAC-411D-AF3C-2A6889B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A0EE-4A5C-4313-B801-A609BBF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CB44-185E-460D-9796-C1CF9ED9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FE64-6065-4556-99F4-CD2010B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29F4-2F07-4C9D-A4DE-A39C487D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CA6-886F-4F68-83F5-F204FE23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DA1C-C1AF-4ECA-8C48-9642E19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F44-9091-41E0-B8FB-0DDBFC6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26A-ACC7-4332-ACF0-C0DABA1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95E8-3DA6-4B4B-ACE5-EF40046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AFF-AB77-41BC-B63E-0E3EDEDD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4A7B-63A3-494F-8D03-A9399BE5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105E-493B-4093-9E51-1AE42F8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5C16-D66C-4C03-8CEC-9988096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945E-B6DC-4AD2-9891-ABB726B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37C5-1317-4EBC-A5B3-1D13090C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641B-EB43-4AD2-B565-A7B8B373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490D-3725-4C2B-98C0-143819B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9ACA-D1A9-4DCB-A956-5319FA6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446E-0AA6-463C-9150-603BB3AA90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DCAA-5B4D-417E-BC69-05A3CF47BF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khmatova.org/articles/zhirmunskiy6.htm" TargetMode="External"/><Relationship Id="rId2" Type="http://schemas.openxmlformats.org/officeDocument/2006/relationships/hyperlink" Target="http://shalamov.ru/library/21/52.html" TargetMode="External"/><Relationship Id="rId3" Type="http://schemas.openxmlformats.org/officeDocument/2006/relationships/hyperlink" Target="http://www.litera.ru/stixiya/articles/457.html" TargetMode="External"/><Relationship Id="rId4" Type="http://schemas.openxmlformats.org/officeDocument/2006/relationships/hyperlink" Target="http://www.kostyor.ru/biography/?n=4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Зрелая лирика в творчестве Анны Андреевны Ахматовой (1889-1966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тудентка филологического факультета 341 группа Савина М.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ыктывкар 2010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Основной вопрос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се ли люди любят одинако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Проблемные вопрос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чем заключается специфика зрелой лирики Ахматов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 каким писателем сближается творчество Ахматовой в зрелый период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мыслы Ахматовой в зрелом творчеств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Какие темы раскрывает Ахматова в большей степен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каких жанрах, новых для себя, пишет Ахмато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Методические задач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аскрыть характер героини любовной лирики Ахматовой, ее страстность, независимость, чувство собственного достоинства и глубину переживан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мочь почувствовать самобытность поэтического мира Ахматовой, осознать связь ее поэзии с проблемами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Результаты исследова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ефе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Литературная гости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очи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икто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Круглый ст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Подтемы в проект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чание при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прессии, аресты  и гонения в 40-60 х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ворчество Блока и его знакомство с Ахмато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Курс будет длитьс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            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7 ч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Этапы проведения проект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ыбор или формулировани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иск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амостоятельная работа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щита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Информационные ресурс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Учебники по литературе за 11 кла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Литературные журнал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Энциклопед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етодические пособ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Интернет сай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akhmatova.org/articles/zhirmunskiy6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shalamov.ru/library/21/52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litera.ru/stixiya/articles/457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http://www.kostyor.ru/biography/?n=4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http://www.russofile.ru/articles/article_81.ph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</cp:lastModifiedBy>
  <dcterms:modified xsi:type="dcterms:W3CDTF">2010-05-05T12:42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